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C25F-580F-4518-96EF-7AE82A9F9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DC5A-1E4D-494B-9648-4C1EB4B9E66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9795-47CC-4BD9-9C8E-4A29BB61E00A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9829-C50A-4169-8C82-44AF30A9131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0749-07BE-4580-898E-687DE5C564B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B7D8-087D-4558-A27C-0E466092AB4F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464A-1156-4E8E-A1FF-E8A618CCB4E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2D04-FB9F-4E99-9C1D-971B8B1B527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1EB0-8580-42BD-9D1C-B73D68F967E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46D2-6D1A-43E0-A854-E1A99021338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598B-5C29-4908-B428-3FAE19B3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4EA-8E32-457C-A415-ADB3A6CC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0A7-C321-4594-86B2-2A5E8540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94FE-2529-4BB9-B0D4-6FE6F6C5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F898-0E27-4503-B0EC-D46D4D04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4B99-5163-4597-AF45-68B4A28F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8A99-73FE-4A47-85A7-06421110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5C0E-3BAA-4ACD-BD5A-FAB5524E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7C3D-1BF4-4F57-A4CC-EDC47E67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3FD8-9218-47C0-ABCB-5ACEA349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8E8B-7954-4FD5-B74E-6FA9030A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B7C-0C97-4AB7-AD5D-7BDAC6EC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63BD-EED4-42AB-993C-A5B59B6C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83C2-985B-45C6-8EA3-341643DA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8948-1350-4CC8-8FEA-0F82E041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3943-4F0A-4D94-8757-A40FE373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AE17-21EC-43FE-8DDF-D9A93F0D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9F9E0-7868-4511-B514-804EBCE3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0AB7A-D132-44CC-8433-0F20E3DB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1EB9B-3304-4AE6-BE9E-793D84BC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1BBF1-D6D5-417A-B15B-4284DA38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29806-F116-46D5-BFAE-C998C7DE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D2C-0FA3-4C7E-A6DF-647737F0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098F3-2624-40F2-802A-D8951538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A0996-E09F-43A1-8F5D-EA4EFAC7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22290-67E0-41C8-AC28-53B36B6A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4B44D-FF94-4D92-A4A7-04B62898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386C0-BDCB-4ECF-8E0F-E6A1849F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720AE-5B6D-4AD2-9B8D-9794B792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FD693-4B91-4FB3-BF4D-BD6FF7D7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FD903-2B30-4746-83C8-42D524DA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FD3BA-5063-4753-8CDE-0CC82289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FFC5B-EAB0-4809-B966-BF205BEE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764-7916-4B5E-B369-DB85D8F2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0513C-0FC4-4D9D-BD7A-159425BE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780BF-7DF4-4C83-987C-CEC8A9C0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3EEB0-9845-4A1C-BD66-59B50349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B98A9-1FB0-4CFC-92E8-631DBC32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EE07B-F8A8-4074-8FAA-DFB97925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183C0-BE3E-4E1C-AE62-9219EC6F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6996B-3D62-4CDE-AEAE-9E415A18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F972F-4393-49DD-8DC2-6FC2A521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BCCF9-8E7A-4D74-BBA6-8DE3BCA0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31A48-8E50-4CFD-873A-52D62C59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396-BB36-48C2-9C2F-BA77F1ED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DEC56-6060-4460-B922-5BC249F3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1B8AB-151D-445F-98F4-C8627970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FF3C0-0C13-435E-9E50-6C308A76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30F8D-A948-427A-BA65-5B374C42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14AE8-F1F8-482C-BDD2-B277A64B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068F9-CEA5-4E13-929D-10052E93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5E024-4A6A-4ADD-B267-AA48A1BC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C9B56-9C3A-4C1D-98C3-015CC9CB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E72A9-4654-4DD6-B0F5-C07989F8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41EFF-ED60-4F5E-8123-98073282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6DE-0443-4EE1-AD61-BCAFB233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9A937-C01D-4622-81A4-741BED76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E5D42-548C-4EB3-9E78-B91EF406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E94F1-9084-4D9B-9DD5-2E91B6C1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95BD7-7227-47E5-A78F-23F99541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455F8-92F8-443F-9608-C825765B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10977-59CB-4891-B06F-BEB3D53C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873FD-F8C1-45AD-A21D-DD81CF99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86E30-F89D-42EB-9474-93A2F28E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7E4EE-A10F-42AF-A761-D3A9AA35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081E1-4635-4737-9831-E842F8E5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E17-5EE9-45CC-B623-EBC1F07D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3F3A6-A4EF-42DD-B310-5DE3547B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C3404-E245-4D3C-92E3-D85C568E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D0130-906D-42F0-9CA7-CF77BE50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BBC74-4795-4A27-A66C-F28DC4EC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B143B-46D5-41F8-87BE-374C4C28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9E410-1B83-4666-8535-3D426850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2D0D1-6958-4BDB-A113-4B4A7FC7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37203-5710-4104-9739-7402CEE3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5AC17-E120-4BF8-B3FE-2B4BA1CA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EE840-8F0B-41A9-A09E-2EB6E462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4B1-4EE1-4CD0-BD2D-DFDAA63B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E91D2-B0AC-4126-A9E4-BC0F6E2F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8FB80-B2E5-49FC-859C-DC006947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2250C-0681-432A-997B-647426BB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3639D-B3A4-4B26-90D8-592BEC5F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CF61D-CFB5-4964-A2E8-CC175776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C7244-17D9-4AD4-BE64-55476890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51CD4-0837-4C3A-8193-708BC5B1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31926-7101-4EC7-8945-A6B656B9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2573F-352A-43C8-AED9-E1DF97D9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0D4B6-7BD0-41CB-99C8-202F1FCE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65DD-8BCC-4DB6-ABA0-8BB61540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0C0EE-6CCA-428D-AD93-08B1926A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7E95B-8BA5-4C19-8F43-68995E1C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12A23-8AEA-452A-BB8C-C298AF46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142DD-EB26-4061-8F47-FAD911F1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67852-48B7-4104-B1A4-61D8E271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A37B4-82B2-4EAA-8808-53DED8A4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20358-4B4C-4444-9611-C2C30131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600C-B252-41E4-BB8A-9BB391683A2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29A7-9CBE-40F6-95E9-5331AB52B3D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77C1-2ED0-4EA5-BC80-80D1EA91274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7FA1-9ADB-4FC3-9C6E-4E834860123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B011-A97E-483D-9970-3BD981BCF3B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BB32-79E6-452B-A3DD-F6C1FF8EFE1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0E32-2760-4D26-A7D2-4A6150E54FF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DDCD-B61C-484F-B3C2-F662AEFB9CF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in Qualitative Research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Shahaduz Zaman Ph.D.</a:t>
            </a:r>
            <a:br>
              <a:rPr sz="28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Newcastle University, UK </a:t>
            </a:r>
            <a:br>
              <a:rPr sz="28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CAFE-D50E-40CF-8943-5892A79F7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e siz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7983-7667-4882-86DB-4E846518F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many is enough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nough to do justice to the subject, no more, no less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980B-232F-4D32-BAF4-0A7E95CCD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minutes interview with 200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v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hours interview with 2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0A4F-F4BE-465D-8886-F51E353C6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ud’s ground breaking theory ‘Psychoanalysis’ 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d on 10 ca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udied over 5 years</a:t>
            </a:r>
            <a:br>
              <a:rPr sz="3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ule of the thumb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20AD-D595-4179-BDA9-9DDD83034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fficie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Covering maximum variety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of respondents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tu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Point of redundancy in response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0A47-0972-4900-A1D3-4429E73B4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ple determination is influenced by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Homogeneity of the group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Nature and experience of the researcher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24AC-869F-479A-8FD1-3B27BE801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phenomenological Studie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At least 6 interviews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grounded theory Stud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12 interviews in each category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Greg Guest, Arwen Bunce and Laura Johnson (2006) Field Methods (18, 59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7FAC-1E29-48E8-A5CB-6CC4C1334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arge samples selected random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e should be representative of some larger population to which one hopes to generalize research find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depth, small samples selected purposive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ing driven by the desire to illuminate questions under study, and to increase the scope or range of data expos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12B1-D0CF-47D0-81D3-46CD52AEB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gins with a relatively fixed theory, eg. An explanation for something that is to be tested. Theory tested in context of random sample, using large enough </a:t>
            </a:r>
            <a:r>
              <a:rPr b="0" i="1" lang="en-GB" sz="3600" spc="-1" strike="noStrike">
                <a:solidFill>
                  <a:srgbClr val="000000"/>
                </a:solidFill>
                <a:latin typeface="Gill Sans MT"/>
              </a:rPr>
              <a:t>N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monstrate statistical significanc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4720" y="2174760"/>
            <a:ext cx="4041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egins with ‘flexible’ theory, allowing for further revision/ decision regarding boundary of investigation, follows a process such as what data sources are ‘rich’, who should I talk to, what should I look at first. As research progresses, ask what data sources may confirm my understanding (theory) or challenge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mpling Strategies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7BBB-45E9-4865-AEA9-D0B299391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ximum var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heory based: Sampling in focused manner, based on a priory theory being evalu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firming/Disconfirming c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xtreme or deviant cas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ratified purposefu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nowball/Chain Samp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0E9E-FCC1-44C0-AAA7-ECB77999A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4" descr="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6604-B2F5-4551-AEE7-71A062E5B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Diagram 5"/>
          <p:cNvGrpSpPr/>
          <p:nvPr/>
        </p:nvGrpSpPr>
        <p:grpSpPr>
          <a:xfrm>
            <a:off x="1044360" y="171360"/>
            <a:ext cx="7870680" cy="5091120"/>
            <a:chOff x="1044360" y="171360"/>
            <a:chExt cx="7870680" cy="5091120"/>
          </a:xfrm>
        </p:grpSpPr>
        <p:sp>
          <p:nvSpPr>
            <p:cNvPr id="363" name="_s1028"/>
            <p:cNvSpPr/>
            <p:nvPr/>
          </p:nvSpPr>
          <p:spPr>
            <a:xfrm>
              <a:off x="1044360" y="1597680"/>
              <a:ext cx="4885560" cy="3664800"/>
            </a:xfrm>
            <a:prstGeom prst="donut">
              <a:avLst>
                <a:gd name="adj" fmla="val 16666"/>
              </a:avLst>
            </a:prstGeom>
            <a:solidFill>
              <a:srgbClr val="4646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_s1029"/>
            <p:cNvSpPr/>
            <p:nvPr/>
          </p:nvSpPr>
          <p:spPr>
            <a:xfrm>
              <a:off x="7613640" y="180000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_s1030"/>
            <p:cNvSpPr/>
            <p:nvPr/>
          </p:nvSpPr>
          <p:spPr>
            <a:xfrm>
              <a:off x="1857240" y="2207160"/>
              <a:ext cx="3256920" cy="2442600"/>
            </a:xfrm>
            <a:prstGeom prst="donut">
              <a:avLst>
                <a:gd name="adj" fmla="val 25000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7613640" y="98568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ig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_s1032"/>
            <p:cNvSpPr/>
            <p:nvPr/>
          </p:nvSpPr>
          <p:spPr>
            <a:xfrm>
              <a:off x="2673000" y="2819160"/>
              <a:ext cx="1628280" cy="1221840"/>
            </a:xfrm>
            <a:prstGeom prst="ellipse">
              <a:avLst/>
            </a:prstGeom>
            <a:solidFill>
              <a:srgbClr val="b292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_s1033"/>
            <p:cNvSpPr/>
            <p:nvPr/>
          </p:nvSpPr>
          <p:spPr>
            <a:xfrm>
              <a:off x="7613640" y="17136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mpl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9292-3592-4E26-81B7-ECFF6E443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rposive sampling should never be confused with sampling for convenienc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Features of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44DB-8C70-40EE-BBBC-EBB99FD23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Qualitative sampling is systematic but flex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uided by clear research ques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evolves as the study progres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1BF3-6F0B-43BA-9439-DB7EE50D6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units are selected serially. Who and what comes next depends on who and what comes befor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election continues to the point of redundancy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Qualitative sampl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F396-ED70-4E84-B265-941C49D3D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process (Plan-Revis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agmatic (Time, money, personne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e considerations explicit/Justify what has been d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arning in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A4CB-093C-4827-B222-190F473B5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too th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selecting the exotic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fitting researchers ideal percep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es qualitative research present bias result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the Generalizibility  of qualitative research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100" spc="-1" strike="noStrike">
                <a:solidFill>
                  <a:srgbClr val="464653"/>
                </a:solidFill>
                <a:latin typeface="Bookman Old Style"/>
              </a:rPr>
              <a:t>Biases</a:t>
            </a:r>
            <a:endParaRPr b="0" lang="en-US" sz="3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ective Instru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server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lec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ffect of observ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Bias is (partly) unavoidabl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Dealing with bias in  Qualitative research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ansferabili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Bookman Old Style"/>
              </a:rPr>
              <a:t>Types of triangulation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metho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resear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perspectiv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image_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Quantitative Sampling : Random Sampling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083B-51EE-4A4E-BCA0-41E67F013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e that is representative in a statistical way of the whole population of intere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which each member of the population has an equal chances of being selec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Objectivity vs Reflexiv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bject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term generally implies maintaining distance between the observer and the observed and minimizing any possible influence of the researchers value on the process of inqui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Reflex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way of knowing that even as a co- participant in the inquiry the researcher has maintained the distinction between personal values and those of the participants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t suggests that there is a middle ground between becoming too involved which can cloud judgment, and remaining too distant, which can reduce understanding.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earcher’s critical self awareness -is a vital process in which you question and observe yourself at the same time you listen to and observe the participan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53"/>
                </a:solidFill>
                <a:latin typeface="Bookman Old Style"/>
              </a:rPr>
              <a:t>Generalizibility</a:t>
            </a:r>
            <a:endParaRPr b="0" lang="en-US" sz="2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t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atistic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tural Generalization (Transferability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Generalizibility vs Transferabil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eneralizi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findings of the research can be generalized to the wider population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ransfer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the conclusions of a study are transferable to other contex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Qualitative Sampling: Purposive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5777-2BBA-4373-8501-CF8067D88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contrast to random sampling,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information ric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cases are selected according to the purpose of the stud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order to get a holistic picture sampling  includes a serious search for both positive and negative case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eoretical Sampl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tto of qualitative 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F3B2-C62F-43EA-83AC-FE209F6B2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mall is beauti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t about littl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Aim of sampling in qualitative research 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6EA1-EB3B-45DA-A424-7D352470B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he primary purpose of sampling is to collect specific cases, events, or actions that can clarify and deepen understa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289A-4DCA-45C3-A125-9927E799F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adth Versus Dep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oader range of experiences for a smaller number of peopl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uni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5D14-D933-4626-8FC3-DC4AF830F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ntitative Sampling samples peop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litative Sampling samples people, time, sit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330F-5168-48E5-9B91-A7F7E7976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peopl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ical cas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iant case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s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tim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y/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ason/Personal occurrence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1:02:25Z</dcterms:created>
  <dc:creator>Neeor</dc:creator>
  <dc:description/>
  <dc:language>en-US</dc:language>
  <cp:lastModifiedBy>Zaman</cp:lastModifiedBy>
  <dcterms:modified xsi:type="dcterms:W3CDTF">2013-12-11T21:12:33Z</dcterms:modified>
  <cp:revision>37</cp:revision>
  <dc:subject/>
  <dc:title>Selecting Unit of Study Sampling</dc:title>
</cp:coreProperties>
</file>